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chomp.wav" ContentType="audio/x-wav"/>
  <Override PartName="/ppt/media/image8.jpeg" ContentType="image/jpeg"/>
  <Override PartName="/ppt/media/image2.jpeg" ContentType="image/jpeg"/>
  <Override PartName="/ppt/media/explosion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crunch.wav" ContentType="audio/x-wav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D6B1-EC90-4EED-97B8-C8B81135B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8707-B5E3-46FC-A1AE-07DB505B5D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A1AE-E79E-4135-91E6-9C43C9AA79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3110-A1D8-4B4C-857A-BE292C4E21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34AF-742E-4581-B81E-91EEF7B613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6AF3-39AD-4B3F-A710-9F756E9801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4132-8608-49D7-BC5E-A574389BE4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1E66-8748-464C-9BF2-C67F6F49D7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4CDC-4566-4055-B5A4-2F9F030474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5140-8D1D-4A02-AA40-E1751BD08E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38C1-BFB9-49B7-8F3E-2CF41AE1A6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7E7-7471-48FB-BD6F-9F65680C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30C-E1F9-4220-946D-D4F807E8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1CC-A763-4967-8A87-CCC43988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E0C-D26B-40F0-BDDD-78B95BA6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BF1-F033-4CDB-9A8B-807C3A90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45D6-790C-49C4-8111-83ED12CB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8B38-E591-44FC-A7D2-A29D39DA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4C88-4601-401C-BB1F-DED96DD5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8F21-078D-4E74-9E98-7F58776F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CCD8-F202-4079-8DC1-232D6780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FB0-E427-4328-BD9C-04F46699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0A13-3C68-44AE-9511-4FDD32DE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62F7-079B-4B12-AF87-7E766BF9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918D-D2B7-48B3-8449-A3E901F4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6B93-4543-4331-9E17-80B0CFB8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AFD0-684D-4171-B5C0-22C4006D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7422-859A-44F8-8859-FA4E7C36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2602-EF2C-4F9D-9FDA-901F71FC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DCF-51A1-4960-B2E8-4589388B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AD6-C4FE-4A22-AC44-AE387C44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137-5894-40D1-8D89-292CED24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004-1298-4EA5-9185-6D34E116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491-F260-472A-B57E-3E25E1E7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4DF-6D35-4CEE-80F9-245DCC35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4A78-7CF8-41E4-957C-8E9C96C234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1E68-5C9F-4C4A-AB2E-FE39188B84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audio" Target="../media/crunch.wav"/><Relationship Id="rId8" Type="http://schemas.openxmlformats.org/officeDocument/2006/relationships/audio" Target="../media/crunch.wav"/><Relationship Id="rId9" Type="http://schemas.openxmlformats.org/officeDocument/2006/relationships/audio" Target="../media/crunch.wav"/><Relationship Id="rId10" Type="http://schemas.openxmlformats.org/officeDocument/2006/relationships/audio" Target="../media/explosion.wav"/><Relationship Id="rId11" Type="http://schemas.openxmlformats.org/officeDocument/2006/relationships/audio" Target="../media/explosion.wav"/><Relationship Id="rId12" Type="http://schemas.openxmlformats.org/officeDocument/2006/relationships/audio" Target="../media/explosion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audio" Target="../media/crunch.wav"/><Relationship Id="rId8" Type="http://schemas.openxmlformats.org/officeDocument/2006/relationships/audio" Target="../media/crunch.wav"/><Relationship Id="rId9" Type="http://schemas.openxmlformats.org/officeDocument/2006/relationships/audio" Target="../media/explosion.wav"/><Relationship Id="rId10" Type="http://schemas.openxmlformats.org/officeDocument/2006/relationships/audio" Target="../media/explosion.wav"/><Relationship Id="rId11" Type="http://schemas.openxmlformats.org/officeDocument/2006/relationships/audio" Target="../media/crunch.wav"/><Relationship Id="rId12" Type="http://schemas.openxmlformats.org/officeDocument/2006/relationships/audio" Target="../media/explosion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8" descr="blue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©2010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, Part 1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762120" y="167652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sentence that has no errors in stru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6" descr="studygirl.jpg"/>
          <p:cNvPicPr/>
          <p:nvPr/>
        </p:nvPicPr>
        <p:blipFill>
          <a:blip r:embed="rId1"/>
          <a:stretch/>
        </p:blipFill>
        <p:spPr>
          <a:xfrm>
            <a:off x="1828800" y="3048120"/>
            <a:ext cx="2025720" cy="3504960"/>
          </a:xfrm>
          <a:prstGeom prst="rect">
            <a:avLst/>
          </a:prstGeom>
          <a:ln w="0">
            <a:noFill/>
          </a:ln>
        </p:spPr>
      </p:pic>
      <p:sp>
        <p:nvSpPr>
          <p:cNvPr id="185" name="Rounded Rectangular Callout 8"/>
          <p:cNvSpPr/>
          <p:nvPr/>
        </p:nvSpPr>
        <p:spPr>
          <a:xfrm>
            <a:off x="5715000" y="4191120"/>
            <a:ext cx="2057400" cy="1828800"/>
          </a:xfrm>
          <a:prstGeom prst="wedgeRoundRectCallout">
            <a:avLst>
              <a:gd name="adj1" fmla="val -175712"/>
              <a:gd name="adj2" fmla="val -3150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see h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251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751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457200" y="17524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rking dogs, kittens that were meowing, and squawking parakeets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rking dogs, meowing kittens, and squawking parakeets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gs that bark, kittens that meow, and parakeets squawking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457200" y="1752480"/>
            <a:ext cx="8229600" cy="43434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rking dogs, kittens that were meowing, and squawking parakeets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arking dogs, meowing kittens, and squawking parakeets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gs that bark, kittens that meow, and parakeets squawking greet the pet shop vis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457200" y="18288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flirting with Brittney, eating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flirting with Brittney, he ate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to flirt with Brittney, to eat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457200" y="1828800"/>
            <a:ext cx="8229600" cy="44197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uring class, Samuel spent his time flirting with Brittney, eating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flirting with Brittney, he ate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class, Samuel spent his time to flirt with Brittney, to eat candy, and doodling on the assignment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under the bed, on his desk, and he searche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viewing under the bed, searching on his desk, an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under the bed, on his desk, an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under the bed, on his desk, and he searche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ex looked everywhere for his math book—viewing under the bed, searching on his desk, an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lex looked everywhere for his math book—under the bed, on his desk, and inside the refrig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smiled at the customers, and didn’t snack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would be smiling at the customers, and would not be snacking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smiled at the customers, and no snacking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manager wanted staff who arrived on time, smiled at the customers, and didn’t snack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would be smiling at the customers, and would not be snacking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nager wanted staff who arrived on time, smiled at the customers, and no snacking on the chicken nug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fter giving Jeremy her phone number, Felicia had to tolerate his late night calls, stupid conversations, and requests for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fter giving Jeremy her phone number, Felicia had to tolerate his late night calls, the fact that he carried on stupid conversations, and requests for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fter giving Jeremy her phone number, Felicia had to tolerate being woken up late at night, having stupid conversations, and he constantly requested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457200" y="1752480"/>
            <a:ext cx="8229600" cy="487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After giving Jeremy her phone number, Felicia had to tolerate his late night calls, stupid conversations, and requests for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fter giving Jeremy her phone number, Felicia had to tolerate his late night calls, the fact that he carried on stupid conversations, and requests for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fter giving Jeremy her phone number, Felicia had to tolerate being woken up late at night, having stupid conversations, and he constantly requested her math ho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, Part 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762120" y="167652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correct word or phrase within the context suggested by the sent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5" descr="studygirl02.JPG"/>
          <p:cNvPicPr/>
          <p:nvPr/>
        </p:nvPicPr>
        <p:blipFill>
          <a:blip r:embed="rId1"/>
          <a:stretch/>
        </p:blipFill>
        <p:spPr>
          <a:xfrm>
            <a:off x="5356080" y="3200400"/>
            <a:ext cx="1924200" cy="3327480"/>
          </a:xfrm>
          <a:prstGeom prst="rect">
            <a:avLst/>
          </a:prstGeom>
          <a:ln w="0">
            <a:noFill/>
          </a:ln>
        </p:spPr>
      </p:pic>
      <p:sp>
        <p:nvSpPr>
          <p:cNvPr id="204" name="Rounded Rectangular Callout 8"/>
          <p:cNvSpPr/>
          <p:nvPr/>
        </p:nvSpPr>
        <p:spPr>
          <a:xfrm>
            <a:off x="1676520" y="4572000"/>
            <a:ext cx="2057400" cy="1523880"/>
          </a:xfrm>
          <a:prstGeom prst="wedgeRoundRectCallout">
            <a:avLst>
              <a:gd name="adj1" fmla="val 165550"/>
              <a:gd name="adj2" fmla="val -5243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diffe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861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361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sta boiling in water, __________, and garlic bread baking in the oven welcomed Francisco as he opened the d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mered tomato sauce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mato sauce simmering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mato sauce that simmered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ucy tomatoes that were simmering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457200" y="1828800"/>
            <a:ext cx="8229600" cy="40384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sta boiling in water, __________, and garlic bread baking in the oven welcomed Francisco as he opened the d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mered tomato sauce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omato sauce simmering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mato sauce that simmered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ucy tomatoes that were simmering in the 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457200" y="16765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vacation in the Bahamas, we hope __________, to enjoy beautiful sunsets, and to dance ourselves dizzy at reggae clu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we eat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eating delicious seafood occ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eat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ting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457200" y="1676520"/>
            <a:ext cx="8229600" cy="41907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vacation in the Bahamas, we hope __________, to enjoy beautiful sunsets, and to dance ourselves dizzy at reggae clu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we eat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eating delicious seafood occ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o eat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ting delicious sea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380880" y="1905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aren wished Ray chewed with his mouth closed, for otherwise he was everything she wanted in a date; he was tall, intelligent, and 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looked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ing good l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handsome man to look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nd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80880" y="1905120"/>
            <a:ext cx="8305920" cy="38862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aren wished Ray chewed with his mouth closed, for otherwise he was everything she wanted in a date; he was tall, intelligent, and 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looked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ing good l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handsome man to look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and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parallel01_edit.JPG"/>
          <p:cNvPicPr/>
          <p:nvPr/>
        </p:nvPicPr>
        <p:blipFill>
          <a:blip r:embed="rId1"/>
          <a:stretch/>
        </p:blipFill>
        <p:spPr>
          <a:xfrm>
            <a:off x="3232080" y="1981080"/>
            <a:ext cx="2635200" cy="4857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arallel Structur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Rounded Rectangular Callout 7"/>
          <p:cNvSpPr/>
          <p:nvPr/>
        </p:nvSpPr>
        <p:spPr>
          <a:xfrm>
            <a:off x="304920" y="3809880"/>
            <a:ext cx="2438280" cy="1828800"/>
          </a:xfrm>
          <a:prstGeom prst="wedgeRoundRectCallout">
            <a:avLst>
              <a:gd name="adj1" fmla="val 106949"/>
              <a:gd name="adj2" fmla="val -4272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 maintai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arallelis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articip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ular Callout 8"/>
          <p:cNvSpPr/>
          <p:nvPr/>
        </p:nvSpPr>
        <p:spPr>
          <a:xfrm>
            <a:off x="6629400" y="4114800"/>
            <a:ext cx="2209680" cy="1600200"/>
          </a:xfrm>
          <a:prstGeom prst="wedgeRoundRectCallout">
            <a:avLst>
              <a:gd name="adj1" fmla="val -134851"/>
              <a:gd name="adj2" fmla="val -5690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hould I use a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infinitiv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9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57200" y="17524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win Laurie’s love, Albert visited the florist for roses, the drugstore for a box of chocolates, and 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ught an expensive gold necklace at the jewelry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jeweler for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jeweler where he bought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buy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457200" y="1752480"/>
            <a:ext cx="8229600" cy="48006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win Laurie’s love, Albert visited the florist for roses, the drugstore for a box of chocolates, and 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ught an expensive gold necklace at the jewelry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jeweler for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jeweler where he bought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buy an expensive gold 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mberly won’t date Terry because he is too short, too noisy, and 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he picks his teeth with his fi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 impo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the most impolite man she has ever 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king his teeth with his fi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mberly won’t date Terry because he is too short, too noisy, and 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he picks his teeth with his fi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oo impo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the most impolite man she has ever 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king his teeth with his fi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thumbsup_edit.JPG"/>
          <p:cNvPicPr/>
          <p:nvPr/>
        </p:nvPicPr>
        <p:blipFill>
          <a:blip r:embed="rId1"/>
          <a:stretch/>
        </p:blipFill>
        <p:spPr>
          <a:xfrm>
            <a:off x="4800600" y="762120"/>
            <a:ext cx="3218040" cy="579096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2"/>
          <p:cNvSpPr/>
          <p:nvPr/>
        </p:nvSpPr>
        <p:spPr>
          <a:xfrm>
            <a:off x="990720" y="2286000"/>
            <a:ext cx="2514600" cy="3505320"/>
          </a:xfrm>
          <a:prstGeom prst="wedgeRoundRectCallout">
            <a:avLst>
              <a:gd name="adj1" fmla="val 144865"/>
              <a:gd name="adj2" fmla="val -2571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covers distinguishing betwee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arall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n-parall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arallelism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457200" y="1676520"/>
            <a:ext cx="81532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bought new shoes for the party, a gold charm for her mother, and to treat her best friend Maria to lu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decided to buy new shoes for the party, purchasing a gold charm for her mother, and treating her best friend Maria to lu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purchased new shoes for the party, a gold charm for her mother, and lunch for Maria, her best fri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457200" y="1676520"/>
            <a:ext cx="8153280" cy="51051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bought new shoes for the party, a gold charm for her mother, and to treat her best friend Maria to lu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ileen decided to buy new shoes for the party, purchasing a gold charm for her mother, and treating her best friend Maria to lu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465120">
              <a:lnSpc>
                <a:spcPct val="100000"/>
              </a:lnSpc>
              <a:spcAft>
                <a:spcPts val="400"/>
              </a:spcAft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ileen purchased new shoes for the party, a gold charm for her mother, and lunch for Maria, her best fri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457200" y="1523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Direction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hoose the sentence that has no errors in 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27"/>
          <p:cNvSpPr/>
          <p:nvPr/>
        </p:nvSpPr>
        <p:spPr>
          <a:xfrm>
            <a:off x="685800" y="2286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Parallel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ooks like th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ems in a series must have parallel structur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4" name="Picture 7" descr="apple_edit.JPG"/>
          <p:cNvPicPr/>
          <p:nvPr/>
        </p:nvPicPr>
        <p:blipFill>
          <a:blip r:embed="rId1"/>
          <a:stretch/>
        </p:blipFill>
        <p:spPr>
          <a:xfrm>
            <a:off x="2438280" y="2965320"/>
            <a:ext cx="884520" cy="844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pple_edit.JPG"/>
          <p:cNvPicPr/>
          <p:nvPr/>
        </p:nvPicPr>
        <p:blipFill>
          <a:blip r:embed="rId2"/>
          <a:stretch/>
        </p:blipFill>
        <p:spPr>
          <a:xfrm>
            <a:off x="3962520" y="2965320"/>
            <a:ext cx="884160" cy="84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pple_edit.JPG"/>
          <p:cNvPicPr/>
          <p:nvPr/>
        </p:nvPicPr>
        <p:blipFill>
          <a:blip r:embed="rId3"/>
          <a:stretch/>
        </p:blipFill>
        <p:spPr>
          <a:xfrm>
            <a:off x="6202440" y="2965320"/>
            <a:ext cx="884160" cy="844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bomb_edit.JPG"/>
          <p:cNvPicPr/>
          <p:nvPr/>
        </p:nvPicPr>
        <p:blipFill>
          <a:blip r:embed="rId4"/>
          <a:stretch/>
        </p:blipFill>
        <p:spPr>
          <a:xfrm>
            <a:off x="2438280" y="4452840"/>
            <a:ext cx="909720" cy="1185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bomb_edit.JPG"/>
          <p:cNvPicPr/>
          <p:nvPr/>
        </p:nvPicPr>
        <p:blipFill>
          <a:blip r:embed="rId5"/>
          <a:stretch/>
        </p:blipFill>
        <p:spPr>
          <a:xfrm>
            <a:off x="3962520" y="4452840"/>
            <a:ext cx="909360" cy="1185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bomb_edit.JPG"/>
          <p:cNvPicPr/>
          <p:nvPr/>
        </p:nvPicPr>
        <p:blipFill>
          <a:blip r:embed="rId6"/>
          <a:stretch/>
        </p:blipFill>
        <p:spPr>
          <a:xfrm>
            <a:off x="6253200" y="4419720"/>
            <a:ext cx="909720" cy="11858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4"/>
          <p:cNvSpPr/>
          <p:nvPr/>
        </p:nvSpPr>
        <p:spPr>
          <a:xfrm>
            <a:off x="990720" y="31240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3429000" y="31240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4952880" y="312408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990720" y="49528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3429000" y="49528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7086600" y="31240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7086600" y="49528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81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82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82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82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582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883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883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1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401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901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901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702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702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re is an example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Rectangle 1027"/>
          <p:cNvSpPr/>
          <p:nvPr/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an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t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pizza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pe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lips, 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burpe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 conten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3" descr="thumbsup_edit.JPG"/>
          <p:cNvPicPr/>
          <p:nvPr/>
        </p:nvPicPr>
        <p:blipFill>
          <a:blip r:embed="rId1"/>
          <a:stretch/>
        </p:blipFill>
        <p:spPr>
          <a:xfrm>
            <a:off x="6332400" y="3124080"/>
            <a:ext cx="2075040" cy="3733920"/>
          </a:xfrm>
          <a:prstGeom prst="rect">
            <a:avLst/>
          </a:prstGeom>
          <a:ln w="0">
            <a:noFill/>
          </a:ln>
        </p:spPr>
      </p:pic>
      <p:sp>
        <p:nvSpPr>
          <p:cNvPr id="161" name="Rounded Rectangular Callout 4"/>
          <p:cNvSpPr/>
          <p:nvPr/>
        </p:nvSpPr>
        <p:spPr>
          <a:xfrm>
            <a:off x="990720" y="4191120"/>
            <a:ext cx="3504960" cy="2133360"/>
          </a:xfrm>
          <a:prstGeom prst="wedgeRoundRectCallout">
            <a:avLst>
              <a:gd name="adj1" fmla="val 126518"/>
              <a:gd name="adj2" fmla="val -3034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st tense verb;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wi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st tense verb; 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bur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st tense ver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781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281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27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Non-parallel structur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s like th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52424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on’t create problems by mixing grammatical elements.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4" name="Picture 7" descr="apple_edit.JPG"/>
          <p:cNvPicPr/>
          <p:nvPr/>
        </p:nvPicPr>
        <p:blipFill>
          <a:blip r:embed="rId1"/>
          <a:stretch/>
        </p:blipFill>
        <p:spPr>
          <a:xfrm>
            <a:off x="2438280" y="3346560"/>
            <a:ext cx="884520" cy="844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pple_edit.JPG"/>
          <p:cNvPicPr/>
          <p:nvPr/>
        </p:nvPicPr>
        <p:blipFill>
          <a:blip r:embed="rId2"/>
          <a:stretch/>
        </p:blipFill>
        <p:spPr>
          <a:xfrm>
            <a:off x="3962520" y="3346560"/>
            <a:ext cx="884160" cy="844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apple_edit.JPG"/>
          <p:cNvPicPr/>
          <p:nvPr/>
        </p:nvPicPr>
        <p:blipFill>
          <a:blip r:embed="rId3"/>
          <a:stretch/>
        </p:blipFill>
        <p:spPr>
          <a:xfrm>
            <a:off x="3962520" y="5181480"/>
            <a:ext cx="884160" cy="844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bomb_edit.JPG"/>
          <p:cNvPicPr/>
          <p:nvPr/>
        </p:nvPicPr>
        <p:blipFill>
          <a:blip r:embed="rId4"/>
          <a:stretch/>
        </p:blipFill>
        <p:spPr>
          <a:xfrm>
            <a:off x="2438280" y="4834080"/>
            <a:ext cx="909720" cy="1185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bomb_edit.JPG"/>
          <p:cNvPicPr/>
          <p:nvPr/>
        </p:nvPicPr>
        <p:blipFill>
          <a:blip r:embed="rId5"/>
          <a:stretch/>
        </p:blipFill>
        <p:spPr>
          <a:xfrm>
            <a:off x="6253200" y="3124080"/>
            <a:ext cx="909720" cy="1185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bomb_edit.JPG"/>
          <p:cNvPicPr/>
          <p:nvPr/>
        </p:nvPicPr>
        <p:blipFill>
          <a:blip r:embed="rId6"/>
          <a:stretch/>
        </p:blipFill>
        <p:spPr>
          <a:xfrm>
            <a:off x="6253200" y="4757760"/>
            <a:ext cx="909720" cy="11858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4"/>
          <p:cNvSpPr/>
          <p:nvPr/>
        </p:nvSpPr>
        <p:spPr>
          <a:xfrm>
            <a:off x="990720" y="36576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3429000" y="365760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4952880" y="36576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990720" y="53341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3429000" y="53341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5029200" y="5334120"/>
            <a:ext cx="1143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7086600" y="365760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21"/>
          <p:cNvSpPr/>
          <p:nvPr/>
        </p:nvSpPr>
        <p:spPr>
          <a:xfrm>
            <a:off x="7086600" y="53341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881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282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282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282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282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583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83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1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1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901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r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901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702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702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problem looks like thi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Rectangle 1027"/>
          <p:cNvSpPr/>
          <p:nvPr/>
        </p:nvSpPr>
        <p:spPr>
          <a:xfrm>
            <a:off x="685800" y="22096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5716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an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t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pizza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pe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lips, 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burping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 conten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unhappy_edit.JPG"/>
          <p:cNvPicPr/>
          <p:nvPr/>
        </p:nvPicPr>
        <p:blipFill>
          <a:blip r:embed="rId1"/>
          <a:stretch/>
        </p:blipFill>
        <p:spPr>
          <a:xfrm>
            <a:off x="6629400" y="3048120"/>
            <a:ext cx="2039760" cy="380988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ular Callout 7"/>
          <p:cNvSpPr/>
          <p:nvPr/>
        </p:nvSpPr>
        <p:spPr>
          <a:xfrm>
            <a:off x="1143000" y="4191120"/>
            <a:ext cx="3733920" cy="2361960"/>
          </a:xfrm>
          <a:prstGeom prst="wedgeRoundRectCallout">
            <a:avLst>
              <a:gd name="adj1" fmla="val 118976"/>
              <a:gd name="adj2" fmla="val -3555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loo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’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do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wi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st tense verbs, bu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burp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esent participl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851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351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0 by Robin L. Simmons. All Rights Reserved.</dc:description>
  <cp:keywords>parallelism parallel non-parallel structure grammar Grammar Bytes! Robin L. Simmons</cp:keywords>
  <dc:language>en-US</dc:language>
  <cp:lastModifiedBy>RSimmons</cp:lastModifiedBy>
  <dcterms:modified xsi:type="dcterms:W3CDTF">2010-01-04T18:28:50Z</dcterms:modified>
  <cp:revision>498</cp:revision>
  <dc:subject/>
  <dc:title>Parallelism</dc:title>
</cp:coreProperties>
</file>